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B1F-FD86-4054-937A-E0755F70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5E0-4C17-4B83-8266-50FF97A0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19D-9637-46ED-AFE0-792A91E3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D19-B416-45D8-845F-1A620892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CCF-9FB6-405E-BC1F-89108C09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74C-0C0D-40C5-81EB-73D0495C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C39-2F06-4207-8A00-BF33F348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C3A-BDF8-4E4D-B58A-D3923728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8FB-DDCD-4533-802F-ACAA9738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631-9BA3-4F7D-8742-17F11A88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1D0-EA75-406F-B5D1-28EE123C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5E7-FFEC-44B2-ADF7-F6447B55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0FEF-6052-4697-AA98-CF19742C1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4365720"/>
            <a:ext cx="401004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rtin Luther K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635280" y="2060640"/>
            <a:ext cx="204804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Memory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93500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25336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857320" cy="361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55640" y="549360"/>
            <a:ext cx="7345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 man who wanted peace in the world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2320920" cy="34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987640" y="549360"/>
            <a:ext cx="353376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man who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nted black people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have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qual rights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 white people..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286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3463920" cy="431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908000" y="765000"/>
            <a:ext cx="475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 would risk his life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916360" y="476280"/>
            <a:ext cx="3429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 help his people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43160" y="2052720"/>
            <a:ext cx="28576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42920" y="620640"/>
            <a:ext cx="732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 would never use violence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2500200" cy="2557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48360" y="1484280"/>
            <a:ext cx="1873440" cy="2351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35280" y="4149720"/>
            <a:ext cx="3162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1640" y="765000"/>
            <a:ext cx="34196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ven when white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ople bombed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is house.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33112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916360" y="620640"/>
            <a:ext cx="388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 refused violence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1293840" cy="511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867280" y="2349360"/>
            <a:ext cx="25336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2920" y="549360"/>
            <a:ext cx="71629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 will be remembered for centuries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19280" y="1989000"/>
            <a:ext cx="3035160" cy="429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508720" y="2349360"/>
            <a:ext cx="2673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5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8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9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7:18:01Z</dcterms:created>
  <dc:creator>Bethan</dc:creator>
  <dc:description/>
  <dc:language>en-US</dc:language>
  <cp:lastModifiedBy>nb</cp:lastModifiedBy>
  <dcterms:modified xsi:type="dcterms:W3CDTF">2007-04-25T12:19:31Z</dcterms:modified>
  <cp:revision>3</cp:revision>
  <dc:subject/>
  <dc:title>Slide 1</dc:title>
</cp:coreProperties>
</file>